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87F-6AE6-4B21-9F41-283B297F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E3B-C78F-46DF-882B-3A0E7964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2077-F2A8-4658-81F7-9B3214C2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825-7B49-4FB6-9D42-BA1145B0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5F3-DE07-43FC-AD0A-04A96B5E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817-5806-4CD4-A93B-0DD05766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69C-B552-434E-9DA2-C4C76B70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C43C-E12F-467A-BB41-88818947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8B8-84A5-4DBA-98B7-E82C4C20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866-A13F-4FFE-9B92-831DAFD8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D18-F893-4051-9215-6481BBD5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B3E-2D23-46B1-9400-1536C7AF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3DFD-7556-4A92-BAC9-BDF65C7BAF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99"/>
                </a:solidFill>
                <a:latin typeface="Arial"/>
              </a:rPr>
              <a:t>Азотная кислота</a:t>
            </a:r>
            <a:br>
              <a:rPr sz="6000"/>
            </a:br>
            <a:r>
              <a:rPr b="0" lang="ru-RU" sz="6000" spc="-1" strike="noStrike">
                <a:solidFill>
                  <a:srgbClr val="ffff99"/>
                </a:solidFill>
                <a:latin typeface="Arial"/>
              </a:rPr>
              <a:t>и ее сол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Тес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16"/>
          <p:cNvSpPr/>
          <p:nvPr/>
        </p:nvSpPr>
        <p:spPr>
          <a:xfrm>
            <a:off x="914400" y="5638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6"/>
          <p:cNvSpPr/>
          <p:nvPr/>
        </p:nvSpPr>
        <p:spPr>
          <a:xfrm>
            <a:off x="380880" y="28195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Нитрат меди при нагревании разлагается с образование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  нитрита металла и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   оксида металла, оксида азота(IV) 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   и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  металла, оксида азота(IV),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  оксида азота(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) и вод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val 6"/>
          <p:cNvSpPr/>
          <p:nvPr/>
        </p:nvSpPr>
        <p:spPr>
          <a:xfrm>
            <a:off x="685800" y="26668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274680"/>
            <a:ext cx="830556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и взаимодействии меди </a:t>
            </a:r>
            <a:br>
              <a:rPr sz="3600"/>
            </a:b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с разбавленной азотной кислотой преимущественно выделяетс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2514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6"/>
          <p:cNvSpPr/>
          <p:nvPr/>
        </p:nvSpPr>
        <p:spPr>
          <a:xfrm>
            <a:off x="914400" y="37339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Нитрат аммония при нагревании разлагается с образование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 оксида азота(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), кислорода и вод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  оксида азота(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) и вод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 оксида азота(IV) и вод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 оксида азота(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) и вод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фотографии 14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7"/>
          <p:cNvSpPr/>
          <p:nvPr/>
        </p:nvSpPr>
        <p:spPr>
          <a:xfrm>
            <a:off x="380880" y="4114800"/>
            <a:ext cx="76212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Оксид, которому соответствует азотная кислота, – эт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6668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6"/>
          <p:cNvSpPr/>
          <p:nvPr/>
        </p:nvSpPr>
        <p:spPr>
          <a:xfrm>
            <a:off x="380880" y="46483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Суммы всех коэффициентов </a:t>
            </a:r>
            <a:br>
              <a:rPr sz="3600"/>
            </a:b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в полном и сокращенном ионных уравнениях реакции между азотной кислотой и оксидом бария соответственно равн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2590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 9 и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 10 и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 9 и 5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12 и 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7"/>
          <p:cNvSpPr/>
          <p:nvPr/>
        </p:nvSpPr>
        <p:spPr>
          <a:xfrm>
            <a:off x="380880" y="4114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Суммы всех коэффициентов </a:t>
            </a:r>
            <a:br>
              <a:rPr sz="3600"/>
            </a:b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в полном и сокращенном ионных уравнениях реакции между азотной кислотой и карбонатом кальция  соответственно равн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3581280"/>
            <a:ext cx="2438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10 и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 10 и 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10 и 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12 и 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6"/>
          <p:cNvSpPr/>
          <p:nvPr/>
        </p:nvSpPr>
        <p:spPr>
          <a:xfrm>
            <a:off x="457200" y="35812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и взаимодействии азотной кислоты с металлами никогда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е</a:t>
            </a: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 выделяетс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23619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6"/>
          <p:cNvSpPr/>
          <p:nvPr/>
        </p:nvSpPr>
        <p:spPr>
          <a:xfrm>
            <a:off x="380880" y="35053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и взаимодействии меди </a:t>
            </a:r>
            <a:br>
              <a:rPr sz="3600"/>
            </a:b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с концентрированной азотной кислотой преимущественно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выделяетс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25905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6"/>
          <p:cNvSpPr/>
          <p:nvPr/>
        </p:nvSpPr>
        <p:spPr>
          <a:xfrm>
            <a:off x="457200" y="19810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Нитрат калия при нагревании разлагается с образование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  нитрита металла и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   оксида металла, оксида азота(IV)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   и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  металла, оксида азота(IV)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   и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  оксида азота(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) и вод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6"/>
          <p:cNvSpPr/>
          <p:nvPr/>
        </p:nvSpPr>
        <p:spPr>
          <a:xfrm>
            <a:off x="380880" y="28954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и нагревании и освещении азотной кислоты выделяетс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2133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ru-RU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6"/>
          <p:cNvSpPr/>
          <p:nvPr/>
        </p:nvSpPr>
        <p:spPr>
          <a:xfrm>
            <a:off x="304920" y="37339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Нитрат ртути при нагревании разлагается с образование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1)   нитрита металла и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2)   оксида металла, оксида азота(IV) 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   и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3)   металла, оксида азота(IV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   и кисло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4)   оксида азота(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) и вод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химии</cp:lastModifiedBy>
  <dcterms:modified xsi:type="dcterms:W3CDTF">2015-04-10T04:28:0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